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C838-88D2-4031-8851-4D865913F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72640" y="882360"/>
            <a:ext cx="7833600" cy="6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916280"/>
            <a:ext cx="769320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4094640"/>
            <a:ext cx="769320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5FA1-45ED-4259-B75D-4C48767D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72640" y="882360"/>
            <a:ext cx="7833600" cy="6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916280"/>
            <a:ext cx="37540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80080" y="1916280"/>
            <a:ext cx="37540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4094640"/>
            <a:ext cx="37540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80080" y="4094640"/>
            <a:ext cx="37540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9BA5-0EBB-42B4-B730-C464EA3A5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72640" y="882360"/>
            <a:ext cx="7833600" cy="6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916280"/>
            <a:ext cx="247680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39080" y="1916280"/>
            <a:ext cx="247680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0080" y="1916280"/>
            <a:ext cx="247680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4094640"/>
            <a:ext cx="247680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39080" y="4094640"/>
            <a:ext cx="247680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0080" y="4094640"/>
            <a:ext cx="247680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1EC7-238E-4CD1-9B58-9B09EA8AD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45273-E09A-43E1-8EEC-3BB0B07ED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72640" y="882360"/>
            <a:ext cx="7833600" cy="6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1916280"/>
            <a:ext cx="769320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92F9-3862-4E5C-B26B-ECBF45B5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72640" y="882360"/>
            <a:ext cx="7833600" cy="6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16280"/>
            <a:ext cx="769320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E14E-91FA-4BFA-A648-2CB1F556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72640" y="882360"/>
            <a:ext cx="7833600" cy="6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916280"/>
            <a:ext cx="375408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1916280"/>
            <a:ext cx="375408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3B72-3519-4862-9EBD-44AC5C01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72640" y="882360"/>
            <a:ext cx="7833600" cy="6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FC90-9EB9-4256-A72C-F39242F2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72640" y="882360"/>
            <a:ext cx="7833600" cy="292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A05D-9E45-4BB9-B96F-A7143207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72640" y="882360"/>
            <a:ext cx="7833600" cy="6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916280"/>
            <a:ext cx="37540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1916280"/>
            <a:ext cx="375408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4640"/>
            <a:ext cx="37540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97DC-3697-4D00-8659-C8CC365A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72640" y="882360"/>
            <a:ext cx="7833600" cy="6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916280"/>
            <a:ext cx="769320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A01D-D777-4916-BCE1-373BDF4E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72640" y="882360"/>
            <a:ext cx="7833600" cy="6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916280"/>
            <a:ext cx="375408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1916280"/>
            <a:ext cx="37540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094640"/>
            <a:ext cx="37540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8B5C-FD32-4E18-B229-D3055532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2640" y="882360"/>
            <a:ext cx="7833600" cy="6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16280"/>
            <a:ext cx="37540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1916280"/>
            <a:ext cx="37540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94640"/>
            <a:ext cx="769320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A663E-A1EB-4D1E-9619-68E2D5BB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72640" y="882360"/>
            <a:ext cx="7833600" cy="6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16280"/>
            <a:ext cx="769320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094640"/>
            <a:ext cx="769320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F428-5C8A-41AD-B0D4-4E40871B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72640" y="882360"/>
            <a:ext cx="7833600" cy="6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916280"/>
            <a:ext cx="37540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1916280"/>
            <a:ext cx="37540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094640"/>
            <a:ext cx="37540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094640"/>
            <a:ext cx="37540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929C-E196-4A90-B364-77C5F5CBD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72640" y="882360"/>
            <a:ext cx="7833600" cy="6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16280"/>
            <a:ext cx="247680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1916280"/>
            <a:ext cx="247680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1916280"/>
            <a:ext cx="247680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094640"/>
            <a:ext cx="247680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094640"/>
            <a:ext cx="247680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094640"/>
            <a:ext cx="247680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3614-FD06-43AA-A870-F29DCB949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72640" y="882360"/>
            <a:ext cx="7833600" cy="6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16280"/>
            <a:ext cx="769320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7B0B-42FD-4200-A1B8-B59CA61B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72640" y="882360"/>
            <a:ext cx="7833600" cy="6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916280"/>
            <a:ext cx="375408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0080" y="1916280"/>
            <a:ext cx="375408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ECDC-531B-42BF-B9A6-E1B970E6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72640" y="882360"/>
            <a:ext cx="7833600" cy="6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5845-2C60-4705-88CD-7FCDF44C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72640" y="882360"/>
            <a:ext cx="7833600" cy="292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383D-5358-441B-903A-7F1F0D83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72640" y="882360"/>
            <a:ext cx="7833600" cy="6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916280"/>
            <a:ext cx="37540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0080" y="1916280"/>
            <a:ext cx="375408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4094640"/>
            <a:ext cx="37540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7895-6455-40C5-A496-41189E83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72640" y="882360"/>
            <a:ext cx="7833600" cy="6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916280"/>
            <a:ext cx="375408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80080" y="1916280"/>
            <a:ext cx="37540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80080" y="4094640"/>
            <a:ext cx="37540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BB0D-E863-42A0-BFD6-4CFF346C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72640" y="882360"/>
            <a:ext cx="7833600" cy="6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916280"/>
            <a:ext cx="37540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0080" y="1916280"/>
            <a:ext cx="37540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4094640"/>
            <a:ext cx="769320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1A7C-C1F6-47F2-9F21-AB0060E2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323640" y="1557360"/>
            <a:ext cx="7391160" cy="216000"/>
            <a:chOff x="323640" y="1557360"/>
            <a:chExt cx="7391160" cy="216000"/>
          </a:xfrm>
        </p:grpSpPr>
        <p:sp>
          <p:nvSpPr>
            <p:cNvPr id="4" name=""/>
            <p:cNvSpPr/>
            <p:nvPr/>
          </p:nvSpPr>
          <p:spPr>
            <a:xfrm>
              <a:off x="704520" y="1557360"/>
              <a:ext cx="7010280" cy="214560"/>
            </a:xfrm>
            <a:prstGeom prst="roundRect">
              <a:avLst>
                <a:gd name="adj" fmla="val 0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323280" y="1557360"/>
              <a:ext cx="393480" cy="216000"/>
            </a:xfrm>
            <a:prstGeom prst="flowChartDelay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72640" y="882360"/>
            <a:ext cx="7833600" cy="6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838080" y="1916280"/>
            <a:ext cx="769320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171880" indent="-34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171880" indent="-34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F9F6-18A1-4332-98E9-3C7891FE247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F3AA-940E-4126-9887-BCCCBEE1463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ERCIZI EXC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rso di Informatica Medic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nno accademico 2004-05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1916280"/>
            <a:ext cx="76932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55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vviare Exc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55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iminare i fogli lasciando solo il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foglio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55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nominare il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foglio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n il nom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Vendi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55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re la seguente tabell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258920" y="3645000"/>
          <a:ext cx="6659640" cy="2733480"/>
        </p:xfrm>
        <a:graphic>
          <a:graphicData uri="http://schemas.openxmlformats.org/drawingml/2006/table">
            <a:tbl>
              <a:tblPr/>
              <a:tblGrid>
                <a:gridCol w="2157480"/>
                <a:gridCol w="1396800"/>
                <a:gridCol w="1433520"/>
                <a:gridCol w="1671840"/>
              </a:tblGrid>
              <a:tr h="455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ndite anno 200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rs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ig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mbrell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Trimest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I Trimest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II Trimest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V Trimest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 txBox="1"/>
          <p:nvPr/>
        </p:nvSpPr>
        <p:spPr>
          <a:xfrm>
            <a:off x="872640" y="882360"/>
            <a:ext cx="7833600" cy="63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Esercizio 1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92504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Esercizio 1: Formattazione testo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916280"/>
            <a:ext cx="769320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550"/>
              </a:spcBef>
              <a:spcAft>
                <a:spcPts val="1375"/>
              </a:spcAft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re un’unica cella in cui scrivere “Vendite anno 2003”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550"/>
              </a:spcBef>
              <a:spcAft>
                <a:spcPts val="1375"/>
              </a:spcAft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tere il grassetto alla riga di intestazione (Borse, Valigie, Ombrelli) e allineare il testo al centr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550"/>
              </a:spcBef>
              <a:spcAft>
                <a:spcPts val="1375"/>
              </a:spcAft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tere le celle della colonna Borse  in formato numerico con separatore di migliai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550"/>
              </a:spcBef>
              <a:spcAft>
                <a:spcPts val="1375"/>
              </a:spcAft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tere un bordo alle celle contenenti dat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550"/>
              </a:spcBef>
              <a:spcAft>
                <a:spcPts val="1375"/>
              </a:spcAft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orare di giallo la cella contenente la scritta “Vendite anno 2003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92504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Esercizio 1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838080" y="1916280"/>
          <a:ext cx="7693200" cy="4169880"/>
        </p:xfrm>
        <a:graphic>
          <a:graphicData uri="http://schemas.openxmlformats.org/drawingml/2006/table">
            <a:tbl>
              <a:tblPr/>
              <a:tblGrid>
                <a:gridCol w="2549520"/>
                <a:gridCol w="1568520"/>
                <a:gridCol w="1612800"/>
                <a:gridCol w="1962360"/>
              </a:tblGrid>
              <a:tr h="694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ndite anno 200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4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rs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ig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mbrell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Trimest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I Trimest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II Trimest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V Trimest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72640" y="882360"/>
            <a:ext cx="7833600" cy="6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Esercizio 1: Funzione Somma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1916280"/>
            <a:ext cx="769320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55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ggiungere la riga Totale, scrivere in grassett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55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re la somma delle quantità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550"/>
              </a:spcBef>
              <a:spcAft>
                <a:spcPts val="1375"/>
              </a:spcAft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lvare sotto la cartella Excel con il nom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sercizio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476360" y="3213000"/>
          <a:ext cx="5832360" cy="3030480"/>
        </p:xfrm>
        <a:graphic>
          <a:graphicData uri="http://schemas.openxmlformats.org/drawingml/2006/table">
            <a:tbl>
              <a:tblPr/>
              <a:tblGrid>
                <a:gridCol w="1708200"/>
                <a:gridCol w="1054080"/>
                <a:gridCol w="1085760"/>
                <a:gridCol w="1984320"/>
              </a:tblGrid>
              <a:tr h="43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ndite anno 200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rs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ig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mbrell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Trimest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I Trimest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II Trimest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V Trimest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72640" y="882360"/>
            <a:ext cx="7833600" cy="6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Esercizio 2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26920" y="1773360"/>
            <a:ext cx="76932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i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sercizio1 e 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re a distanza di 5 righe la seguente tabell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eguire i calcoli inserendo le opportune funzio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re in modo che le cifre di tutte le celle che contengono prezzi, escano con il simbolo dell’euro e con due  cifre  decimal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826920" y="2349360"/>
          <a:ext cx="7993080" cy="3259080"/>
        </p:xfrm>
        <a:graphic>
          <a:graphicData uri="http://schemas.openxmlformats.org/drawingml/2006/table">
            <a:tbl>
              <a:tblPr/>
              <a:tblGrid>
                <a:gridCol w="1368360"/>
                <a:gridCol w="1081440"/>
                <a:gridCol w="1223640"/>
                <a:gridCol w="792360"/>
                <a:gridCol w="1295280"/>
                <a:gridCol w="1224000"/>
                <a:gridCol w="1008000"/>
              </a:tblGrid>
              <a:tr h="33732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TTU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ntit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zzo U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ort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nza 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ort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l'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or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 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r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ig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mbr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72640" y="882360"/>
            <a:ext cx="7833600" cy="6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Esercizio 2: Soluzione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26920" y="1773000"/>
            <a:ext cx="7693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lvare sotto la cartella Excel con il no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sercizio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50920" y="2421000"/>
          <a:ext cx="8785080" cy="3865680"/>
        </p:xfrm>
        <a:graphic>
          <a:graphicData uri="http://schemas.openxmlformats.org/drawingml/2006/table">
            <a:tbl>
              <a:tblPr/>
              <a:tblGrid>
                <a:gridCol w="1368360"/>
                <a:gridCol w="1066680"/>
                <a:gridCol w="1238400"/>
                <a:gridCol w="792000"/>
                <a:gridCol w="1440000"/>
                <a:gridCol w="1368360"/>
                <a:gridCol w="1511280"/>
              </a:tblGrid>
              <a:tr h="36828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T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ntit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zzo U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orto Senza 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orto dell'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ort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 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.83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166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.996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i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68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8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648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mbrel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42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8,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10,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.852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402,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.254,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820800" y="2560680"/>
          <a:ext cx="8323200" cy="429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0800" y="2560680"/>
                    <a:ext cx="832320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 txBox="1"/>
          <p:nvPr/>
        </p:nvSpPr>
        <p:spPr>
          <a:xfrm>
            <a:off x="872640" y="882360"/>
            <a:ext cx="7833600" cy="6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Esercizio 3: Grafico a Torta 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26920" y="1844640"/>
            <a:ext cx="76932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i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sercizio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re il grafico a torta 3D della tabella delle vendite visualizzando le % e la lege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10:19:12Z</dcterms:created>
  <dc:creator>Roberta</dc:creator>
  <dc:description/>
  <dc:language>en-US</dc:language>
  <cp:lastModifiedBy>Roberta</cp:lastModifiedBy>
  <dcterms:modified xsi:type="dcterms:W3CDTF">2004-11-22T15:00:00Z</dcterms:modified>
  <cp:revision>6</cp:revision>
  <dc:subject/>
  <dc:title>ESERCIZI EXC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82877032</vt:r8>
  </property>
  <property fmtid="{D5CDD505-2E9C-101B-9397-08002B2CF9AE}" pid="3" name="_AuthorEmail">
    <vt:lpwstr>lesedra@libero.it</vt:lpwstr>
  </property>
  <property fmtid="{D5CDD505-2E9C-101B-9397-08002B2CF9AE}" pid="4" name="_AuthorEmailDisplayName">
    <vt:lpwstr>Roberta Pariotti</vt:lpwstr>
  </property>
  <property fmtid="{D5CDD505-2E9C-101B-9397-08002B2CF9AE}" pid="5" name="_EmailSubject">
    <vt:lpwstr>excel</vt:lpwstr>
  </property>
</Properties>
</file>